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744A-6389-4D30-ABAC-C0A553FD948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Предмет химии. Вещества и их физически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EFEC-96D3-4682-B2EE-F2253F412E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признаков (свойств) выпишите те, которые относятся к тела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проводный, мягкий, круглый, плоский, бесцветный, деревянный, нерастворимый, прозрачный, газообразный, твердый, кристаллический, длинный, тяжелый, овальный, растворимый, квадратный, желт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03F7-8ECB-4845-B4F8-E0B533CE70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имия – это наука о веществах, их строении, свойствах, превращениях и явлениях, которыми сопровождаются эти прев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1CA6-5015-4C0A-B954-62A4226DD6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1, задания 1-4 (письменно), подготовиться к практической работе №1 (стр. 193-19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D444-20CE-41CB-90AB-A816376068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– мифологическое мыш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 – становление научного знания (древнегреческая натурфилософ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аклит: «Мир единый из всего, не созданный никем из богов и никем из людей, представляет собой вечный огонь, закономерно возгорающий и закономерно затухающ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A3B7-8E41-41BB-B064-C52A628B7F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ксимен (585-521 гг. до н.э.) – 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едокл (490-430 гг. до н.э.) – 4 стихии (огонь, вода, воздух, земля) и 2 силы (любовь и враж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истотель (384-322 гг. до н.э.) – единство противоположностей начал: сухость и влажность, тепло и холод. Сочетаясь между собой эти начала образуют 4 стихии Эмпедок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D63E-19B8-4414-8C6A-D7F9D822A4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 – эпоха алхимии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 до н.э. п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 н.э.). Поиски философского камня, получение различных веществ, развитие ремесел (выделка кожи, отбеливание тканей, консервирование продуктов, выплавка метал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нсис Бекон (1561-1626) – английский философ. Главным методом исследования химии должен быть 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147E-1A9C-4BC0-9419-67322F127D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Бойль – последователь Ф. Бекона. Опроверг теорию Аристо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уан Лавуазье к конц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Завершил т.н. «химическую революцию». С этого времени химию стали считать наукой о получении и свойствах простых и слож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1B70-C3B5-4087-85F1-F1822A8842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щество – это то, из чего состоят физическ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ряду расположены только ве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аренная соль, сахар, све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железо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ь, гвоздь, кисл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пич, пищевая сода, керамический ста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BF60-FCC9-472D-9580-523704B454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ряду расположены только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варенная соль, сахар, све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ода, железо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Медь, гвоздь, кисл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Кирпич, медная монета, керамический ста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выпишите названия веществ: гвоздь, стакан, графит, линейка, алюминий, железо, воронка, крахмал, уксусная кислота, глюк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B078-4AA1-4E36-BC75-2DE210BD70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ие свойства веще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атное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е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а плавления и кип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прово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B2E8-3F9E-4B97-9395-A82B0FA2E3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признаков (свойств) выпишите те, которые относятся к вещества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имый, круглый, легкий, кристаллический, выпуклый, газообразный, твердый, плоский, зеленый, электропроводный, овальный, хрупкий, стеклянный, жид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2031-C71D-43A3-B1AC-3F9E7E1EB6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6A54-24F7-4B3E-85EF-B7CC08E5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53C-863E-4B72-A0B0-4A37ABD1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792-FD02-4B9C-AC22-CE3D5F18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BE4-70E5-4651-B98E-2F3979DA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D499-F57C-4457-9AC3-F76F27F0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F7CE-66C5-4062-A275-83765BE2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CDB8-E71B-4C23-B9E5-05E7D506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4259-6EA2-4A82-B6C2-9FBCCA8F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BA2B-1006-48C2-8D9D-BC4992BA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C219-9EF5-4559-B31C-C42850CB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76C1-F3C5-47F1-A65F-2BE6AAEE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6897-FBA0-40E3-B733-38F21864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4D2F-F0A2-44AF-B2AC-A8790C04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A1CF-3C4E-4EDA-B0F2-1F9F7510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76B7-06DA-4487-BA42-41789E21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70C1-CD88-4E82-A24A-D9F62CC0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62C7-7300-4F51-A860-56C70F56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21C-6D26-4C44-8851-277B879B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22F-9266-4CE2-9AA6-D88FB5DD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FD70-DAA4-4056-80E0-C26689AF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36E-72ED-44A6-9D00-DDB93EA8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2FB-71B1-4106-8852-19C0512E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659-4698-406E-9123-30219A19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E56-40CC-4FAD-83A0-044143D7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35EA-9FA7-4F31-B0B4-08A6026FE5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1EBA-C4BF-44F0-98B4-9ABDD8773E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ма: Предмет химии. Вещества и их физические свойства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435640" y="6093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химии: Шохина К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признаков (свойств) выпишите те, которые относятся к тела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плопроводный, мягкий, круглый, плоский, бесцветный, деревянный, нерастворимый, прозрачный, газообразный, твердый, кристаллический, длинный, тяжелый, овальный, растворимый, квадратный, желт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имия – это наука о веществах, их строении, свойствах, превращениях и явлениях, которыми сопровождаются эти превра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 1, задания 1-4 (письменно), подготовиться к практической работе №1 (стр. 193-19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тория хим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этап – мифологическое мыш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этап – становление научного знания (древнегреческая натурфилософ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аклит: «Мир единый из всего, не созданный никем из богов и никем из людей, представляет собой вечный огонь, закономерно возгорающий и закономерно затухающ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ксимен (585-521 гг. до н.э.) – 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педокл (490-430 гг. до н.э.) – 4 стихии (огонь, вода, воздух, земля) и 2 силы (любовь и вражд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истотель (384-322 гг. до н.э.) – единство противоположностей начал: сухость и влажность, тепло и холод. Сочетаясь между собой эти начала образуют 4 стихии Эмпедок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30268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этап – эпоха алхимии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 до н.э. п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 н.э.). Поиски философского камня, получение различных веществ, развитие ремесел (выделка кожи, отбеливание тканей, консервирование продуктов, выплавка металл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енсис Бекон (1561-1626) – английский философ. Главным методом исследования химии должен быть ЭКСПЕРИМЕ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075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берт Бойль – последователь Ф. Бекона. Опроверг теорию Аристо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уан Лавуазье к конц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Завершил т.н. «химическую революцию». С этого времени химию стали считать наукой о получении и свойствах простых и сложных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ещество – это то, из чего состоят физические т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ряду расположены только вещест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аренная соль, сахар, све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, железо, с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ь, гвоздь,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рпич, пищевая сода, керамический ста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ряду расположены только те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Поваренная соль, сахар, све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Вода, железо, с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Медь, гвоздь,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Кирпич, медная монета, керамический ста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выпишите названия веществ: гвоздь, стакан, графит, линейка, алюминий, железо, воронка, крахмал, уксусная кислота, глюко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Физические свойства вещест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грегатн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им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пература плавления и кип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провод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признаков (свойств) выпишите те, которые относятся к вещества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имый, круглый, легкий, кристаллический, выпуклый, газообразный, твердый, плоский, зеленый, электропроводный, овальный, хрупкий, стеклянный, жидк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08:35:07Z</dcterms:created>
  <dc:creator>Пользователь</dc:creator>
  <dc:description/>
  <dc:language>en-US</dc:language>
  <cp:lastModifiedBy>LEGION</cp:lastModifiedBy>
  <dcterms:modified xsi:type="dcterms:W3CDTF">2015-05-01T11:25:50Z</dcterms:modified>
  <cp:revision>8</cp:revision>
  <dc:subject/>
  <dc:title>Тема: Предмет химии</dc:title>
</cp:coreProperties>
</file>